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23.png" ContentType="image/png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EF7D-CDB1-4886-A357-A1543BC548D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D7B5-F39B-4FE7-80C1-4B394A5E53E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745-12D0-487B-B45A-BADA3499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D56-3C5C-41FA-8349-A82DDF2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E2C-6227-4312-B671-A44060C0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9F6-A226-4134-9135-D9EA72E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E86-569F-4A7E-B7F0-E9A92C7B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EBF-98C2-45ED-B36A-66255EB3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DA5-C9A6-4C74-83B3-247BC3D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2AB-C4B1-4CF5-A7F0-BAD1EFAE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5F6-DC88-4EAC-8FEE-E7689900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7E3-37AB-434D-999B-80433F6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323-9252-4709-95E5-0DCCAF8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104-9861-41FA-8A79-94E8B65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D2F-3B40-418A-AB1F-3C99D5C1641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5840" y="2241720"/>
            <a:ext cx="7929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428760" y="2928960"/>
            <a:ext cx="7358040" cy="1740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Cuerpos cet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etogénesis, precursores, circunstancias metabólicas en que se produ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etólisis, órganos que utilizan Cuerpos Cetónicos como combust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Rectángulo"/>
          <p:cNvSpPr/>
          <p:nvPr/>
        </p:nvSpPr>
        <p:spPr>
          <a:xfrm>
            <a:off x="285840" y="2071800"/>
            <a:ext cx="7358040" cy="3448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 y enzima mál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213840"/>
            <a:ext cx="8286480" cy="65725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transportadora de acilos (PTA) (ó acyl carrier protein, AC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Rectangle 5"/>
          <p:cNvSpPr/>
          <p:nvPr/>
        </p:nvSpPr>
        <p:spPr>
          <a:xfrm>
            <a:off x="1285920" y="29289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D35-DC57-409C-932C-E1073414C03C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Ácidos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Etapa I)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14200" y="142920"/>
            <a:ext cx="885852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ÓN DE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 (ACC)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67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5357880" y="2286000"/>
            <a:ext cx="3959280" cy="1617480"/>
            <a:chOff x="5357880" y="2286000"/>
            <a:chExt cx="3959280" cy="1617480"/>
          </a:xfrm>
        </p:grpSpPr>
        <p:pic>
          <p:nvPicPr>
            <p:cNvPr id="171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357880" y="228600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8524800" y="2933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2"/>
          <p:cNvSpPr/>
          <p:nvPr/>
        </p:nvSpPr>
        <p:spPr>
          <a:xfrm>
            <a:off x="500076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826920" y="4786200"/>
            <a:ext cx="2316240" cy="7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3390840" y="3929040"/>
            <a:ext cx="141624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03640" y="26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189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191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195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03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07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59 Rectángulo redondeado"/>
          <p:cNvSpPr/>
          <p:nvPr/>
        </p:nvSpPr>
        <p:spPr>
          <a:xfrm>
            <a:off x="2000160" y="2786040"/>
            <a:ext cx="1143000" cy="6429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60 Rectángulo redondeado"/>
          <p:cNvSpPr/>
          <p:nvPr/>
        </p:nvSpPr>
        <p:spPr>
          <a:xfrm>
            <a:off x="6429240" y="2286000"/>
            <a:ext cx="1428840" cy="15717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1571760"/>
              <a:gd name="textAreaBottom" fmla="*/ 1502280 h 1571760"/>
            </a:gdLst>
            <a:ahLst/>
            <a:rect l="textAreaLeft" t="textAreaTop" r="textAreaRight" b="textAreaBottom"/>
            <a:pathLst>
              <a:path w="21600" h="23760">
                <a:moveTo>
                  <a:pt x="3600" y="0"/>
                </a:moveTo>
                <a:arcTo wR="3600" hR="3600" stAng="16200000" swAng="-5400000"/>
                <a:lnTo>
                  <a:pt x="0" y="20160"/>
                </a:lnTo>
                <a:arcTo wR="3600" hR="3600" stAng="10800000" swAng="-5400000"/>
                <a:lnTo>
                  <a:pt x="18000" y="23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1 Rectángulo redondeado"/>
          <p:cNvSpPr/>
          <p:nvPr/>
        </p:nvSpPr>
        <p:spPr>
          <a:xfrm>
            <a:off x="214200" y="2571840"/>
            <a:ext cx="1276560" cy="1285920"/>
          </a:xfrm>
          <a:custGeom>
            <a:avLst/>
            <a:gdLst>
              <a:gd name="textAreaLeft" fmla="*/ 62280 w 1276560"/>
              <a:gd name="textAreaRight" fmla="*/ 1214280 w 1276560"/>
              <a:gd name="textAreaTop" fmla="*/ 62280 h 1285920"/>
              <a:gd name="textAreaBottom" fmla="*/ 1223640 h 1285920"/>
            </a:gdLst>
            <a:ahLst/>
            <a:rect l="textAreaLeft" t="textAreaTop" r="textAreaRight" b="textAreaBottom"/>
            <a:pathLst>
              <a:path w="21600" h="21758">
                <a:moveTo>
                  <a:pt x="3600" y="0"/>
                </a:moveTo>
                <a:arcTo wR="3600" hR="3600" stAng="16200000" swAng="-5400000"/>
                <a:lnTo>
                  <a:pt x="0" y="18158"/>
                </a:lnTo>
                <a:arcTo wR="3600" hR="3600" stAng="10800000" swAng="-5400000"/>
                <a:lnTo>
                  <a:pt x="18000" y="21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62 Rectángulo redondeado"/>
          <p:cNvSpPr/>
          <p:nvPr/>
        </p:nvSpPr>
        <p:spPr>
          <a:xfrm>
            <a:off x="5357880" y="2214720"/>
            <a:ext cx="1071360" cy="150012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500120"/>
              <a:gd name="textAreaBottom" fmla="*/ 1447920 h 1500120"/>
            </a:gdLst>
            <a:ahLst/>
            <a:rect l="textAreaLeft" t="textAreaTop" r="textAreaRight" b="textAreaBottom"/>
            <a:pathLst>
              <a:path w="21600" h="30241">
                <a:moveTo>
                  <a:pt x="3600" y="0"/>
                </a:moveTo>
                <a:arcTo wR="3600" hR="3600" stAng="16200000" swAng="-5400000"/>
                <a:lnTo>
                  <a:pt x="0" y="26641"/>
                </a:lnTo>
                <a:arcTo wR="3600" hR="3600" stAng="10800000" swAng="-5400000"/>
                <a:lnTo>
                  <a:pt x="18000" y="302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9"/>
          <p:cNvSpPr/>
          <p:nvPr/>
        </p:nvSpPr>
        <p:spPr>
          <a:xfrm flipV="1" rot="16200000">
            <a:off x="7004160" y="29955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H="1" flipV="1">
            <a:off x="1785960" y="3643200"/>
            <a:ext cx="1155600" cy="9907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 flipV="1">
            <a:off x="5786280" y="3642840"/>
            <a:ext cx="1428840" cy="1143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6000840" y="3643200"/>
            <a:ext cx="2071440" cy="12859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 flipV="1">
            <a:off x="2785680" y="3571920"/>
            <a:ext cx="857160" cy="1071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V="1">
            <a:off x="4714920" y="3571560"/>
            <a:ext cx="214200" cy="11365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H="1" flipV="1">
            <a:off x="3857760" y="3571920"/>
            <a:ext cx="288720" cy="1063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9"/>
          <p:cNvSpPr/>
          <p:nvPr/>
        </p:nvSpPr>
        <p:spPr>
          <a:xfrm flipV="1">
            <a:off x="5292720" y="3643200"/>
            <a:ext cx="779400" cy="1000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>
            <a:off x="468360" y="333360"/>
            <a:ext cx="799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COMIENZO Y PROCEDENCI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LOS CARBONOS DEL ACIDO G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Rectángulo"/>
          <p:cNvSpPr/>
          <p:nvPr/>
        </p:nvSpPr>
        <p:spPr>
          <a:xfrm>
            <a:off x="1571760" y="2259000"/>
            <a:ext cx="65721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2 subunidades,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multifuncionales, cada una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con 3 dominios (I,  II, 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Rectángulo"/>
          <p:cNvSpPr/>
          <p:nvPr/>
        </p:nvSpPr>
        <p:spPr>
          <a:xfrm>
            <a:off x="642960" y="28440"/>
            <a:ext cx="8072280" cy="173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tapa II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catalizadas por el complejo multienzimátic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Ácido graso sintasa (A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392640" y="0"/>
            <a:ext cx="6537240" cy="94298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8608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Ácido Graso Sintas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squema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23 Rectángulo"/>
          <p:cNvSpPr/>
          <p:nvPr/>
        </p:nvSpPr>
        <p:spPr>
          <a:xfrm>
            <a:off x="0" y="6253200"/>
            <a:ext cx="485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Química Biológica”, Ed. El Ateneo, 9a edic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4 CuadroTexto"/>
          <p:cNvSpPr/>
          <p:nvPr/>
        </p:nvSpPr>
        <p:spPr>
          <a:xfrm>
            <a:off x="5293080" y="1357200"/>
            <a:ext cx="161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Enzi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Condensante-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 CuadroTexto"/>
          <p:cNvSpPr/>
          <p:nvPr/>
        </p:nvSpPr>
        <p:spPr>
          <a:xfrm>
            <a:off x="6150600" y="5214960"/>
            <a:ext cx="161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Enzi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Condensante-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uadroTexto"/>
          <p:cNvSpPr/>
          <p:nvPr/>
        </p:nvSpPr>
        <p:spPr>
          <a:xfrm>
            <a:off x="-3714840" y="2043000"/>
            <a:ext cx="957276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Dominio 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ingreso de sustratos y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 condensación.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Acetil transferasa (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Malonil transferasa (M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Enzima condensante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un resto de cisteína (Cys-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Dominio I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unidad de 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 Enoil reductasa (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 Hidroxiacil deshidratasa (H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Cetoacil reductasa (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Posee la proteína transportadora de acilos P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ominio III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liberación de ácidos grasos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1enzim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- Tiolesterasa (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íntesis de Ácidos Grasos (Palmítico)</a:t>
            </a:r>
            <a:br>
              <a:rPr sz="32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quema general</a:t>
            </a:r>
            <a:br>
              <a:rPr sz="32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(organismos superiores y bacteri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85720" y="1500120"/>
            <a:ext cx="83440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GS-1° reacción - Adición del grupo acetil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71468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419640" y="3286080"/>
            <a:ext cx="24714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7304040" cy="2119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AGS- 2° reacción- Transferencia de Malonil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alonil-ACP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857920" y="1643040"/>
            <a:ext cx="2471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Malo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CuadroTexto"/>
          <p:cNvSpPr/>
          <p:nvPr/>
        </p:nvSpPr>
        <p:spPr>
          <a:xfrm>
            <a:off x="6005880" y="342900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6 CuadroTexto"/>
          <p:cNvSpPr/>
          <p:nvPr/>
        </p:nvSpPr>
        <p:spPr>
          <a:xfrm>
            <a:off x="5362920" y="242892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7 CuadroTexto"/>
          <p:cNvSpPr/>
          <p:nvPr/>
        </p:nvSpPr>
        <p:spPr>
          <a:xfrm>
            <a:off x="4224600" y="40006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alonil-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7 CuadroTexto"/>
          <p:cNvSpPr/>
          <p:nvPr/>
        </p:nvSpPr>
        <p:spPr>
          <a:xfrm>
            <a:off x="939240" y="500076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CP ó PTA = Acyl Carrier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ó Proteína Transportadora de Aci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GS- 3° reacció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cetilo se separa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Acetoacetil-AC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 (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2286000" y="314316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lang="es-ES" sz="2000" spc="-1" strike="noStrike">
                <a:solidFill>
                  <a:srgbClr val="e46c0a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O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e46c0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C-C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142920" y="3214800"/>
            <a:ext cx="264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b05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C-C-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-EC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31"/>
          <p:cNvCxnSpPr/>
          <p:nvPr/>
        </p:nvCxnSpPr>
        <p:spPr>
          <a:xfrm flipV="1">
            <a:off x="492732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Text Box 32"/>
          <p:cNvSpPr/>
          <p:nvPr/>
        </p:nvSpPr>
        <p:spPr>
          <a:xfrm>
            <a:off x="5651640" y="3071880"/>
            <a:ext cx="3492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 ‖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b05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-C-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e46c0a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–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S-ACP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S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3"/>
          <p:cNvSpPr/>
          <p:nvPr/>
        </p:nvSpPr>
        <p:spPr>
          <a:xfrm>
            <a:off x="5065560" y="42861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4"/>
          <p:cNvSpPr/>
          <p:nvPr/>
        </p:nvSpPr>
        <p:spPr>
          <a:xfrm>
            <a:off x="521352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49291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4 Rectángulo"/>
          <p:cNvSpPr/>
          <p:nvPr/>
        </p:nvSpPr>
        <p:spPr>
          <a:xfrm>
            <a:off x="4861080" y="3571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77"/>
          <p:cNvGrpSpPr/>
          <p:nvPr/>
        </p:nvGrpSpPr>
        <p:grpSpPr>
          <a:xfrm>
            <a:off x="179280" y="189000"/>
            <a:ext cx="4464000" cy="6669000"/>
            <a:chOff x="179280" y="189000"/>
            <a:chExt cx="4464000" cy="6669000"/>
          </a:xfrm>
        </p:grpSpPr>
        <p:pic>
          <p:nvPicPr>
            <p:cNvPr id="302" name="Picture 5" descr="Biosint AGs"/>
            <p:cNvPicPr/>
            <p:nvPr/>
          </p:nvPicPr>
          <p:blipFill>
            <a:blip r:embed="rId1"/>
            <a:srcRect l="11249" t="0" r="11249" b="22222"/>
            <a:stretch/>
          </p:blipFill>
          <p:spPr>
            <a:xfrm>
              <a:off x="179280" y="189000"/>
              <a:ext cx="446400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54"/>
            <p:cNvSpPr/>
            <p:nvPr/>
          </p:nvSpPr>
          <p:spPr>
            <a:xfrm>
              <a:off x="2458440" y="1413000"/>
              <a:ext cx="12488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Enz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ndens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5"/>
            <p:cNvSpPr/>
            <p:nvPr/>
          </p:nvSpPr>
          <p:spPr>
            <a:xfrm>
              <a:off x="2269440" y="3213000"/>
              <a:ext cx="1443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ff0000"/>
                  </a:solidFill>
                  <a:latin typeface="Arial"/>
                </a:rPr>
                <a:t>β</a:t>
              </a: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-cetoacil-A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6"/>
            <p:cNvSpPr/>
            <p:nvPr/>
          </p:nvSpPr>
          <p:spPr>
            <a:xfrm>
              <a:off x="2342520" y="5157720"/>
              <a:ext cx="14410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3-OH-acil-AC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8"/>
          <p:cNvGrpSpPr/>
          <p:nvPr/>
        </p:nvGrpSpPr>
        <p:grpSpPr>
          <a:xfrm>
            <a:off x="4794120" y="476280"/>
            <a:ext cx="4098960" cy="2952720"/>
            <a:chOff x="4794120" y="476280"/>
            <a:chExt cx="4098960" cy="2952720"/>
          </a:xfrm>
        </p:grpSpPr>
        <p:pic>
          <p:nvPicPr>
            <p:cNvPr id="307" name="Picture 53" descr="Biosint AGs"/>
            <p:cNvPicPr/>
            <p:nvPr/>
          </p:nvPicPr>
          <p:blipFill>
            <a:blip r:embed="rId2"/>
            <a:srcRect l="18399" t="65620" r="10550" b="0"/>
            <a:stretch/>
          </p:blipFill>
          <p:spPr>
            <a:xfrm>
              <a:off x="4794120" y="476280"/>
              <a:ext cx="40989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57"/>
            <p:cNvSpPr/>
            <p:nvPr/>
          </p:nvSpPr>
          <p:spPr>
            <a:xfrm>
              <a:off x="6548400" y="1989000"/>
              <a:ext cx="1336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Enoil-AC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79"/>
          <p:cNvGrpSpPr/>
          <p:nvPr/>
        </p:nvGrpSpPr>
        <p:grpSpPr>
          <a:xfrm>
            <a:off x="5063040" y="3397320"/>
            <a:ext cx="3559320" cy="768960"/>
            <a:chOff x="5063040" y="3397320"/>
            <a:chExt cx="3559320" cy="768960"/>
          </a:xfrm>
        </p:grpSpPr>
        <p:grpSp>
          <p:nvGrpSpPr>
            <p:cNvPr id="310" name="Group 60"/>
            <p:cNvGrpSpPr/>
            <p:nvPr/>
          </p:nvGrpSpPr>
          <p:grpSpPr>
            <a:xfrm>
              <a:off x="5783760" y="3429000"/>
              <a:ext cx="1340280" cy="737280"/>
              <a:chOff x="5783760" y="3429000"/>
              <a:chExt cx="1340280" cy="737280"/>
            </a:xfrm>
          </p:grpSpPr>
          <p:sp>
            <p:nvSpPr>
              <p:cNvPr id="311" name="Line 58"/>
              <p:cNvSpPr/>
              <p:nvPr/>
            </p:nvSpPr>
            <p:spPr>
              <a:xfrm>
                <a:off x="6431040" y="3429000"/>
                <a:ext cx="0" cy="53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59"/>
              <p:cNvSpPr/>
              <p:nvPr/>
            </p:nvSpPr>
            <p:spPr>
              <a:xfrm>
                <a:off x="5783760" y="3922560"/>
                <a:ext cx="13402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c0504d"/>
                    </a:solidFill>
                    <a:latin typeface="Arial"/>
                  </a:rPr>
                  <a:t>Hexanoil-A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65"/>
            <p:cNvSpPr/>
            <p:nvPr/>
          </p:nvSpPr>
          <p:spPr>
            <a:xfrm>
              <a:off x="7106760" y="3397320"/>
              <a:ext cx="1515600" cy="368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Malon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rc 66"/>
            <p:cNvSpPr/>
            <p:nvPr/>
          </p:nvSpPr>
          <p:spPr>
            <a:xfrm flipH="1" rot="3028200">
              <a:off x="6583320" y="3503880"/>
              <a:ext cx="432000" cy="424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8"/>
            <p:cNvSpPr/>
            <p:nvPr/>
          </p:nvSpPr>
          <p:spPr>
            <a:xfrm>
              <a:off x="5063040" y="342900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2do. cic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80"/>
          <p:cNvGrpSpPr/>
          <p:nvPr/>
        </p:nvGrpSpPr>
        <p:grpSpPr>
          <a:xfrm>
            <a:off x="4501440" y="4189320"/>
            <a:ext cx="4382640" cy="744480"/>
            <a:chOff x="4501440" y="4189320"/>
            <a:chExt cx="4382640" cy="744480"/>
          </a:xfrm>
        </p:grpSpPr>
        <p:grpSp>
          <p:nvGrpSpPr>
            <p:cNvPr id="317" name="Group 61"/>
            <p:cNvGrpSpPr/>
            <p:nvPr/>
          </p:nvGrpSpPr>
          <p:grpSpPr>
            <a:xfrm>
              <a:off x="5785560" y="4221000"/>
              <a:ext cx="1340280" cy="712800"/>
              <a:chOff x="5785560" y="4221000"/>
              <a:chExt cx="1340280" cy="712800"/>
            </a:xfrm>
          </p:grpSpPr>
          <p:sp>
            <p:nvSpPr>
              <p:cNvPr id="318" name="Line 62"/>
              <p:cNvSpPr/>
              <p:nvPr/>
            </p:nvSpPr>
            <p:spPr>
              <a:xfrm>
                <a:off x="6429600" y="4221000"/>
                <a:ext cx="0" cy="49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63"/>
              <p:cNvSpPr/>
              <p:nvPr/>
            </p:nvSpPr>
            <p:spPr>
              <a:xfrm>
                <a:off x="5785560" y="4690080"/>
                <a:ext cx="13402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c0504d"/>
                    </a:solidFill>
                    <a:latin typeface="Arial"/>
                  </a:rPr>
                  <a:t>Palmitoil-A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67"/>
            <p:cNvSpPr/>
            <p:nvPr/>
          </p:nvSpPr>
          <p:spPr>
            <a:xfrm>
              <a:off x="7177680" y="4189320"/>
              <a:ext cx="1706400" cy="368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5 Malon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9"/>
            <p:cNvSpPr/>
            <p:nvPr/>
          </p:nvSpPr>
          <p:spPr>
            <a:xfrm>
              <a:off x="4501440" y="422100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3ro.- 7mo. cic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rc 70"/>
            <p:cNvSpPr/>
            <p:nvPr/>
          </p:nvSpPr>
          <p:spPr>
            <a:xfrm flipH="1" rot="3028200">
              <a:off x="6654600" y="4296240"/>
              <a:ext cx="431640" cy="423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74"/>
          <p:cNvSpPr/>
          <p:nvPr/>
        </p:nvSpPr>
        <p:spPr>
          <a:xfrm>
            <a:off x="303120" y="4021200"/>
            <a:ext cx="38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1"/>
          <p:cNvGrpSpPr/>
          <p:nvPr/>
        </p:nvGrpSpPr>
        <p:grpSpPr>
          <a:xfrm>
            <a:off x="5091480" y="5013360"/>
            <a:ext cx="2980440" cy="1015920"/>
            <a:chOff x="5091480" y="5013360"/>
            <a:chExt cx="2980440" cy="1015920"/>
          </a:xfrm>
        </p:grpSpPr>
        <p:sp>
          <p:nvSpPr>
            <p:cNvPr id="325" name="Line 71"/>
            <p:cNvSpPr/>
            <p:nvPr/>
          </p:nvSpPr>
          <p:spPr>
            <a:xfrm>
              <a:off x="6443640" y="5013360"/>
              <a:ext cx="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2"/>
            <p:cNvSpPr/>
            <p:nvPr/>
          </p:nvSpPr>
          <p:spPr>
            <a:xfrm>
              <a:off x="6516720" y="5027760"/>
              <a:ext cx="1336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Tioesterasa o Deac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3"/>
            <p:cNvSpPr/>
            <p:nvPr/>
          </p:nvSpPr>
          <p:spPr>
            <a:xfrm>
              <a:off x="5091480" y="5661000"/>
              <a:ext cx="29804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Arial"/>
                </a:rPr>
                <a:t>Palmitato (16C) + ACP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rc 75"/>
            <p:cNvSpPr/>
            <p:nvPr/>
          </p:nvSpPr>
          <p:spPr>
            <a:xfrm rot="19978200">
              <a:off x="5866920" y="5165640"/>
              <a:ext cx="511200" cy="351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6"/>
            <p:cNvSpPr/>
            <p:nvPr/>
          </p:nvSpPr>
          <p:spPr>
            <a:xfrm>
              <a:off x="5481000" y="501336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83" descr="PALMITAC"/>
          <p:cNvPicPr/>
          <p:nvPr/>
        </p:nvPicPr>
        <p:blipFill>
          <a:blip r:embed="rId3"/>
          <a:stretch/>
        </p:blipFill>
        <p:spPr>
          <a:xfrm>
            <a:off x="4932360" y="6076800"/>
            <a:ext cx="34560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1 Título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íntesis de Ácidos Grasos (Palmítico)      (AGS desde la 4°reac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346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energético de la Biosíntesis</a:t>
            </a:r>
            <a:br>
              <a:rPr sz="3600"/>
            </a:b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Ac. Palmítico (1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 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CuadroTexto"/>
          <p:cNvSpPr/>
          <p:nvPr/>
        </p:nvSpPr>
        <p:spPr>
          <a:xfrm>
            <a:off x="74880" y="1643040"/>
            <a:ext cx="55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ON </a:t>
            </a:r>
            <a:r>
              <a:rPr b="1" lang="es-ES" sz="2800" spc="-1" strike="noStrike">
                <a:solidFill>
                  <a:srgbClr val="f74b15"/>
                </a:solidFill>
                <a:latin typeface="Calibri"/>
              </a:rPr>
              <a:t>DEGRADACIO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BIOSI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857240" y="1066680"/>
            <a:ext cx="15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90536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9 Flecha abajo"/>
          <p:cNvSpPr/>
          <p:nvPr/>
        </p:nvSpPr>
        <p:spPr>
          <a:xfrm>
            <a:off x="1357200" y="2000160"/>
            <a:ext cx="285840" cy="3429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74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0 Flecha arriba"/>
          <p:cNvSpPr/>
          <p:nvPr/>
        </p:nvSpPr>
        <p:spPr>
          <a:xfrm>
            <a:off x="6643800" y="2071800"/>
            <a:ext cx="285480" cy="342900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74b15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5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00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idratos de C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611280" y="1341360"/>
            <a:ext cx="770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20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5072040" y="1214280"/>
            <a:ext cx="40719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En cerebro se induce la enzima </a:t>
            </a:r>
            <a:r>
              <a:rPr b="0" i="1" lang="es-ES_tradnl" sz="2000" spc="-1" strike="noStrike">
                <a:solidFill>
                  <a:srgbClr val="c00000"/>
                </a:solidFill>
                <a:latin typeface="Arial"/>
              </a:rPr>
              <a:t>transferasa  (Tioforasa) 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cuando la [CC] está elevada10 ve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hígado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 es el principal </a:t>
            </a:r>
            <a:r>
              <a:rPr b="0" i="1" lang="es-ES" sz="2000" spc="-1" strike="noStrike">
                <a:solidFill>
                  <a:srgbClr val="c00000"/>
                </a:solidFill>
                <a:latin typeface="Arial"/>
              </a:rPr>
              <a:t>productor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de C. Cetón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pero es incapaz de usar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18 CuadroTexto"/>
          <p:cNvSpPr/>
          <p:nvPr/>
        </p:nvSpPr>
        <p:spPr>
          <a:xfrm>
            <a:off x="3651480" y="314316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7 Rectángulo redondeado"/>
          <p:cNvSpPr/>
          <p:nvPr/>
        </p:nvSpPr>
        <p:spPr>
          <a:xfrm>
            <a:off x="2928960" y="2214720"/>
            <a:ext cx="1500120" cy="571320"/>
          </a:xfrm>
          <a:prstGeom prst="roundRect">
            <a:avLst>
              <a:gd name="adj" fmla="val 1698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8 Rectángulo redondeado"/>
          <p:cNvSpPr/>
          <p:nvPr/>
        </p:nvSpPr>
        <p:spPr>
          <a:xfrm>
            <a:off x="3071880" y="500040"/>
            <a:ext cx="1785960" cy="571680"/>
          </a:xfrm>
          <a:prstGeom prst="roundRect">
            <a:avLst>
              <a:gd name="adj" fmla="val 1698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96" name="4 CuadroTexto"/>
          <p:cNvSpPr/>
          <p:nvPr/>
        </p:nvSpPr>
        <p:spPr>
          <a:xfrm>
            <a:off x="4655880" y="0"/>
            <a:ext cx="440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¿cuándo ocurre EN EXC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6224400" y="1643040"/>
            <a:ext cx="255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 prolon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Flecha arriba"/>
          <p:cNvSpPr/>
          <p:nvPr/>
        </p:nvSpPr>
        <p:spPr>
          <a:xfrm flipV="1">
            <a:off x="6143760" y="35719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Flecha arriba"/>
          <p:cNvSpPr/>
          <p:nvPr/>
        </p:nvSpPr>
        <p:spPr>
          <a:xfrm>
            <a:off x="6072120" y="4214880"/>
            <a:ext cx="127080" cy="28584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Flecha arriba"/>
          <p:cNvSpPr/>
          <p:nvPr/>
        </p:nvSpPr>
        <p:spPr>
          <a:xfrm>
            <a:off x="6143760" y="307188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004800" y="460368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8 CuadroTexto"/>
          <p:cNvSpPr/>
          <p:nvPr/>
        </p:nvSpPr>
        <p:spPr>
          <a:xfrm>
            <a:off x="5734800" y="464328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Rectángulo"/>
          <p:cNvSpPr/>
          <p:nvPr/>
        </p:nvSpPr>
        <p:spPr>
          <a:xfrm>
            <a:off x="1071720" y="3714840"/>
            <a:ext cx="1143000" cy="42840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8 Rectángulo"/>
          <p:cNvSpPr/>
          <p:nvPr/>
        </p:nvSpPr>
        <p:spPr>
          <a:xfrm>
            <a:off x="1500120" y="4786200"/>
            <a:ext cx="928800" cy="50004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Flecha arriba"/>
          <p:cNvSpPr/>
          <p:nvPr/>
        </p:nvSpPr>
        <p:spPr>
          <a:xfrm flipV="1">
            <a:off x="6143760" y="257184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6 CuadroTexto"/>
          <p:cNvSpPr/>
          <p:nvPr/>
        </p:nvSpPr>
        <p:spPr>
          <a:xfrm>
            <a:off x="5715000" y="24289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7 CuadroTexto"/>
          <p:cNvSpPr/>
          <p:nvPr/>
        </p:nvSpPr>
        <p:spPr>
          <a:xfrm>
            <a:off x="6000840" y="1714680"/>
            <a:ext cx="26431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8 Rectángulo"/>
          <p:cNvSpPr/>
          <p:nvPr/>
        </p:nvSpPr>
        <p:spPr>
          <a:xfrm>
            <a:off x="4143240" y="3929040"/>
            <a:ext cx="1571760" cy="142884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9 CuadroTexto"/>
          <p:cNvSpPr/>
          <p:nvPr/>
        </p:nvSpPr>
        <p:spPr>
          <a:xfrm>
            <a:off x="5786280" y="4143240"/>
            <a:ext cx="3143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0 Rectángulo redondeado"/>
          <p:cNvSpPr/>
          <p:nvPr/>
        </p:nvSpPr>
        <p:spPr>
          <a:xfrm>
            <a:off x="3786120" y="1643040"/>
            <a:ext cx="1857600" cy="171468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1 CuadroTexto"/>
          <p:cNvSpPr/>
          <p:nvPr/>
        </p:nvSpPr>
        <p:spPr>
          <a:xfrm>
            <a:off x="5786280" y="5500800"/>
            <a:ext cx="3143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19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22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8-05-22T15:57:09Z</dcterms:modified>
  <cp:revision>165</cp:revision>
  <dc:subject/>
  <dc:title>Diapositiva 1</dc:title>
</cp:coreProperties>
</file>